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8ADE-CF56-43D5-8C44-DE3F17B77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8345-4339-4AA3-8CA6-DE09B57A3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DFBB-CABF-45FC-991F-E6F4C8CED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1A04-59E0-4F7C-8EBB-064226CF5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BB62-047B-43C8-B560-5A9B97517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75BE-3837-47C1-85BF-E2A9F8D41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B5A1-D73D-431B-B529-EF5E6233A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7D65-A67D-4DD9-A3B8-E973A5B9B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0D24-A87E-42C8-8D8C-FE60A690B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CE45-377D-43A3-BD48-7A1C9BA92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30D8-4477-448E-B83F-4E7E29C78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883C-8E40-4447-9816-2DD46DCCC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27A0-6210-4D5F-8073-FE69C3444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442A-0336-4699-BF2E-9290C8994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5842-56FE-4C2A-98DE-078DA2AF5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86D-C07C-460E-B2F9-01DE213A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94E-13DD-4067-BE0B-34682C37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9C1-7628-40F3-B25B-D7DB049C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C8A-CDA3-440A-A347-0E26B833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0DE-DFE7-49D5-9DA9-EBD0FDA0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6E4-36B3-4A4B-8653-D364B3A4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95F-BFD4-42BD-AD3F-9CEC94D8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39E-9B46-4BCC-ADD8-E7B256C1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D0F7-2015-4E50-8983-A565D4E3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A90-F769-495F-BC3F-3298EC52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150C-1F98-4922-AFE2-C20615F2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35B-C0B4-4CFB-9FD4-DF030755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FEC6-309E-440C-B5D2-AD5A9A9AE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4.xml"/><Relationship Id="rId3" Type="http://schemas.openxmlformats.org/officeDocument/2006/relationships/slide" Target="slide10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00e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36232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Curso de Reasegur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AIDA - Urugu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86080" y="4890960"/>
            <a:ext cx="61722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Montevideo - Uruguay, Septiembre d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33640" y="60498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ec"/>
                </a:solidFill>
                <a:latin typeface="Times New Roman MT Extra Bold"/>
              </a:rPr>
              <a:t>Dra. Nancy Vil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00e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1295280" y="2514600"/>
            <a:ext cx="6782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>
            <a:hlinkClick r:id="rId1" action="ppaction://hlinksldjump"/>
          </p:cNvPr>
          <p:cNvSpPr/>
          <p:nvPr/>
        </p:nvSpPr>
        <p:spPr>
          <a:xfrm>
            <a:off x="8839080" y="6629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9907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naturaleza del con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1893960"/>
            <a:ext cx="7086600" cy="9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easeguro tiene todos los elementos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ato de seg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" y="3479760"/>
            <a:ext cx="89154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és asegurable: el patrimonio del asegu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8600" y="4317840"/>
            <a:ext cx="89154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: el peligro que se produzca la obligación de pago - 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" y="5079960"/>
            <a:ext cx="89154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a: prima de reasegu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5800" y="18939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76320" y="7621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naturaleza del con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295280" y="1523880"/>
            <a:ext cx="7086600" cy="9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ntrato de reaseguro reúne todos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racteres propios del segu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2743200"/>
            <a:ext cx="89154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neroso: requiere el pago de p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28600" y="3274920"/>
            <a:ext cx="891540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ensual: perfeccionamiento por el mero consent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" y="4282920"/>
            <a:ext cx="891540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lateral y sinalagmático: genera obligaciones recípro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ferenci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" y="5291280"/>
            <a:ext cx="891540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eatorio: la obligación del reaseguro está condicionada por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urrencia de un hecho even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85800" y="15238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" y="6299280"/>
            <a:ext cx="89154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de ejecución continuada o tracto suce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76320" y="8380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naturaleza del con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9480" y="1555920"/>
            <a:ext cx="891540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un contrato de adhesión: las partes está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iciones de proponer, discutir y cambiar las cláus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14400" y="3352680"/>
            <a:ext cx="800100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o expuesto podemos concluir qu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trato de reaseguros es un negocio asegu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trato de seguro y reaseguro son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autóno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ato de reaseguro está subordinado al de seg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n seguro original y riesgo cubierto, falta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jeto e interés asegurable por parte del reasegu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5400000">
            <a:off x="4447080" y="2675880"/>
            <a:ext cx="438120" cy="268200"/>
          </a:xfrm>
          <a:prstGeom prst="rightArrow">
            <a:avLst>
              <a:gd name="adj1" fmla="val 50000"/>
              <a:gd name="adj2" fmla="val 40839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320" y="944640"/>
            <a:ext cx="35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Re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" y="3652920"/>
            <a:ext cx="86868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 una operación de seguro concertada por 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segurador, por la que transfiere parte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iesgos asumidos o parte de las indemniz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 pagar, cediendo parte de la prima o abon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r ello una prima al reasegurador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57200" y="2438280"/>
            <a:ext cx="86868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 el seguro del riesgo asumido por el asegur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76320" y="838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riesgo cubi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523880"/>
            <a:ext cx="800100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sibilidad de una disminución del patrimonio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segurado por tener que indemnizar a su asegura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o consecuencia de un siniestro ocurrido dentro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co de un contrato de seg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708360"/>
            <a:ext cx="7925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iesgo no es la responsabilidad civil del asegu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9480" y="4495680"/>
            <a:ext cx="822960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usa remota: para el reasegurador es el siniestr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fre el asegurado de su reaseg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480" y="5746680"/>
            <a:ext cx="838224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usa próxima: es la deuda que le nace a la reasegur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pagar el siniestro de su asegur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76320" y="838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comunidad de suer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" y="1600200"/>
            <a:ext cx="60958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tuna técnica vs fortuna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971800"/>
            <a:ext cx="822960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easegurador seguirá el mismo compromiso que de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umir el asegurador con el riesgo por él asegur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" y="4127400"/>
            <a:ext cx="76201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sigue la suerte comercial del asegu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14400" y="5423040"/>
            <a:ext cx="708660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demos concluir entonce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easegurador sólo debe seguir la fortuna 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su reaseg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rot="5400000">
            <a:off x="3761280" y="4822200"/>
            <a:ext cx="438120" cy="268200"/>
          </a:xfrm>
          <a:prstGeom prst="rightArrow">
            <a:avLst>
              <a:gd name="adj1" fmla="val 50000"/>
              <a:gd name="adj2" fmla="val 40839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2286000"/>
            <a:ext cx="80773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llow the fortune - follow settlements (Exxon Vald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76320" y="9907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máxima buena 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031840"/>
            <a:ext cx="72388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base es la creencia, la probidad y la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85800" y="3048120"/>
            <a:ext cx="762012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seguro la lealtad gravita especialmente en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mentos precontrac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85800" y="4375080"/>
            <a:ext cx="800100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reaseguro es similar, pero por ser entre expe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á implícita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52280" y="8002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621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ligaciones y cargas del asegurador reasegur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8080" y="1371600"/>
            <a:ext cx="655344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gar la p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nunciar en tiempo y forma los sinie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ntener la política asegu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52280" y="293364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62120" y="28195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ligaciones y cargas del reasegura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3505320"/>
            <a:ext cx="37339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gar los sinie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2280" y="40006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38862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ligaciones ante la autoridad de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38080" y="4510080"/>
            <a:ext cx="739152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r de informar los cut off, anulación o resc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gar los contratos a las ced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áusula de insolv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hibición de que haya condición resolutoria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lta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04920" y="10288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914400" y="9144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laciones derivadas del cont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914400" y="1670040"/>
            <a:ext cx="792468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urante la vigencia del contrato el reasegurador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rech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dir información sobre los sinie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llegar a revisar los libros de la ced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04920" y="40006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914400" y="38862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vención especial del reasegur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14400" y="4718160"/>
            <a:ext cx="784872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icipación activa en la liquidación de los sinie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áusula de control y cooperación de sinie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atos fron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t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56204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91440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sentación general del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8828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914400" y="408924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ases técnicas de seguros y reaseguro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2037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914400" y="27687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contrato de reaseg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55245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914400" y="54100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tratos de Reaseguros Automátic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rograma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04920" y="140976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914400" y="12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falencia de las par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14400" y="2108160"/>
            <a:ext cx="57150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quidación de asegurad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8600" y="32767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38080" y="316224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luridad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914400" y="4000680"/>
            <a:ext cx="792468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normal por el principio de atomización del riesg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que sean varios los reaseguradores que entr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ntro de un contrato oblig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5613480"/>
            <a:ext cx="7924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coreaseguro con las caraterísticas del coseg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228600" y="10857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9716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rbitr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38080" y="1708200"/>
            <a:ext cx="822960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ácticamente oblig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s características se consignan en el contrato gené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30099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8080" y="28954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diciones para ser arbi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3819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080" y="3705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tros medios de dirimir los confli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914400" y="4467240"/>
            <a:ext cx="5638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ación con expe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ación jud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justi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5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76320" y="11430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ticencia - Errores y omisiones - Penal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3808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contractual y durante la liquidación de sinie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38080" y="3429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ón de los mis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38080" y="463392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hazo de siniest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easeguro por denuncia tard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762120" y="198108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contrato de seguro patrimon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de responsabilidad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28600" y="14097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62120" y="12952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aturaleza jurídica del contrato de reaseg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8600" y="35434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2120" y="3429000"/>
            <a:ext cx="74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sibles consecuencias jurídicas de una u otra interpre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8600" y="48387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2120" y="4724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lta de acción del asegu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62120" y="53341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tiene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rId1" action="ppaction://hlinksldjump"/>
          </p:cNvPr>
          <p:cNvSpPr/>
          <p:nvPr/>
        </p:nvSpPr>
        <p:spPr>
          <a:xfrm>
            <a:off x="8839080" y="6629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50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c1"/>
            </a:gs>
            <a:gs pos="100000">
              <a:srgbClr val="0000e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447920" y="2590920"/>
            <a:ext cx="6172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>
            <a:hlinkClick r:id="rId1" action="ppaction://hlinksldjump"/>
          </p:cNvPr>
          <p:cNvSpPr/>
          <p:nvPr/>
        </p:nvSpPr>
        <p:spPr>
          <a:xfrm>
            <a:off x="8839080" y="6629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1917720"/>
            <a:ext cx="83059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ufici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iesgos - gran número de asegu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valores a riesgos homogéneos (p.e.: 100.000 - 20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posición homogénea - calidad homogénea del ri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(p.e.: edificios de ciertas caractérist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lazo del seguro suficiente (p.e.: 1 añ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spersión física (p.e.: distintas ciu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iesgo específico (p.e.: incen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>
            <a:hlinkClick r:id="rId1" action="ppaction://hlinksldjump"/>
          </p:cNvPr>
          <p:cNvSpPr/>
          <p:nvPr/>
        </p:nvSpPr>
        <p:spPr>
          <a:xfrm>
            <a:off x="76320" y="9907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diciones necesar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838080" y="5451480"/>
            <a:ext cx="65534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iedad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de los valore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 los bienes asegur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1636560"/>
            <a:ext cx="2210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ví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rId1" action="ppaction://hlinksldjump"/>
          </p:cNvPr>
          <p:cNvSpPr/>
          <p:nvPr/>
        </p:nvSpPr>
        <p:spPr>
          <a:xfrm>
            <a:off x="76320" y="920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ctores advers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438280" y="2351160"/>
            <a:ext cx="2362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4724280" y="2139840"/>
          <a:ext cx="1752840" cy="941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2139840"/>
                    <a:ext cx="175284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4800600" y="3282840"/>
          <a:ext cx="1676520" cy="901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3282840"/>
                    <a:ext cx="16765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"/>
          <p:cNvSpPr/>
          <p:nvPr/>
        </p:nvSpPr>
        <p:spPr>
          <a:xfrm>
            <a:off x="2438280" y="3473280"/>
            <a:ext cx="2362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t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4516560"/>
            <a:ext cx="480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cumulación en el espa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500"/>
                            </p:stCondLst>
                            <p:childTnLst>
                              <p:par>
                                <p:cTn id="5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>
            <a:hlinkClick r:id="rId1" action="ppaction://hlinksldjump"/>
          </p:cNvPr>
          <p:cNvSpPr/>
          <p:nvPr/>
        </p:nvSpPr>
        <p:spPr>
          <a:xfrm>
            <a:off x="457200" y="11113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herramienta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e nos permite eliminar los factores adversos es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19520" y="441972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El Reaseg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rot="5400000">
            <a:off x="3962520" y="2781360"/>
            <a:ext cx="1295280" cy="9144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990720" y="1905120"/>
            <a:ext cx="761976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geneizar las expos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r la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r los desví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cuenci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sid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l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ta de experiencia sobre el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uando el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es suficientemente gr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de c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38080" y="928800"/>
            <a:ext cx="716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 qué sirve el rease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" y="110484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685800" y="1752480"/>
            <a:ext cx="8534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5000"/>
              </a:lnSpc>
              <a:spcBef>
                <a:spcPts val="22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ción  de desvíos probables en una carter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6320" y="914400"/>
            <a:ext cx="571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ión del rease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85800" y="2525760"/>
            <a:ext cx="9067680" cy="9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5000"/>
              </a:lnSpc>
              <a:spcBef>
                <a:spcPts val="22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ción del patrimonio propio y el volume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pr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609480" y="5200560"/>
            <a:ext cx="8001000" cy="1332000"/>
            <a:chOff x="609480" y="5200560"/>
            <a:chExt cx="8001000" cy="1332000"/>
          </a:xfrm>
        </p:grpSpPr>
        <p:sp>
          <p:nvSpPr>
            <p:cNvPr id="782" name=""/>
            <p:cNvSpPr/>
            <p:nvPr/>
          </p:nvSpPr>
          <p:spPr>
            <a:xfrm>
              <a:off x="1714680" y="5200560"/>
              <a:ext cx="5790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Objetivo último del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reaseguro</a:t>
              </a: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5715000"/>
              <a:ext cx="800100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 cumplir una 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Arial"/>
                </a:rPr>
                <a:t>función de estabilización técni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Arial"/>
                </a:rPr>
                <a:t>y financiera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respecto de las asegurador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 rot="5400000">
            <a:off x="3772080" y="3848040"/>
            <a:ext cx="1295280" cy="9144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00e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2514600"/>
            <a:ext cx="8534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ffff"/>
                </a:solidFill>
                <a:latin typeface="Arial"/>
              </a:rPr>
              <a:t>Presentación general del te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8839080" y="6629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1447920" y="2209680"/>
            <a:ext cx="5790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eguros propor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320" y="1096920"/>
            <a:ext cx="571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alidades téc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47920" y="4267080"/>
            <a:ext cx="640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eguros no propor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447920" y="320040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eguros de ries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23880" y="5334120"/>
            <a:ext cx="5410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eguros de sinies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3860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62120" y="44416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76320" y="838080"/>
            <a:ext cx="571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alidades téc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85800" y="2446200"/>
            <a:ext cx="82296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berturas de riesg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la medida que el asegurador directo -compañía de seguros- transfiere al reasegurador una determinada porción de las obligaciones que ha asumido con las coberturas otorgadas (póliz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62120" y="5029200"/>
            <a:ext cx="81532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berturas de siniestr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rque amparan la caja del asegurador directo -compañía de seguros- cuando éste debe realizar un pago neto por siniestro superior a un  determinado impor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52280" y="1671480"/>
            <a:ext cx="8458200" cy="519120"/>
            <a:chOff x="152280" y="1671480"/>
            <a:chExt cx="8458200" cy="519120"/>
          </a:xfrm>
        </p:grpSpPr>
        <p:sp>
          <p:nvSpPr>
            <p:cNvPr id="798" name=""/>
            <p:cNvSpPr/>
            <p:nvPr/>
          </p:nvSpPr>
          <p:spPr>
            <a:xfrm>
              <a:off x="533520" y="1671480"/>
              <a:ext cx="8076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aseguros proporcionales - Reaseg de riesgo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2280" y="1805040"/>
              <a:ext cx="381240" cy="252360"/>
            </a:xfrm>
            <a:prstGeom prst="rightArrow">
              <a:avLst>
                <a:gd name="adj1" fmla="val 50000"/>
                <a:gd name="adj2" fmla="val 377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0000ec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2280" y="4254480"/>
            <a:ext cx="9372600" cy="519120"/>
            <a:chOff x="152280" y="4254480"/>
            <a:chExt cx="9372600" cy="519120"/>
          </a:xfrm>
        </p:grpSpPr>
        <p:sp>
          <p:nvSpPr>
            <p:cNvPr id="801" name=""/>
            <p:cNvSpPr/>
            <p:nvPr/>
          </p:nvSpPr>
          <p:spPr>
            <a:xfrm>
              <a:off x="533520" y="4254480"/>
              <a:ext cx="8991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aseguros no proporcionales - Reaseg de siniestr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2280" y="4387680"/>
              <a:ext cx="381240" cy="252720"/>
            </a:xfrm>
            <a:prstGeom prst="rightArrow">
              <a:avLst>
                <a:gd name="adj1" fmla="val 50000"/>
                <a:gd name="adj2" fmla="val 37714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0000ec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76320" y="1173240"/>
            <a:ext cx="571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rmas oper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1066680" y="2468520"/>
            <a:ext cx="3353040" cy="579960"/>
            <a:chOff x="1066680" y="2468520"/>
            <a:chExt cx="3353040" cy="579960"/>
          </a:xfrm>
        </p:grpSpPr>
        <p:sp>
          <p:nvSpPr>
            <p:cNvPr id="807" name=""/>
            <p:cNvSpPr/>
            <p:nvPr/>
          </p:nvSpPr>
          <p:spPr>
            <a:xfrm>
              <a:off x="1828800" y="2468520"/>
              <a:ext cx="2590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cultativ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066680" y="264492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0000ec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1143000" y="4449600"/>
            <a:ext cx="2895480" cy="579960"/>
            <a:chOff x="1143000" y="4449600"/>
            <a:chExt cx="2895480" cy="579960"/>
          </a:xfrm>
        </p:grpSpPr>
        <p:sp>
          <p:nvSpPr>
            <p:cNvPr id="810" name=""/>
            <p:cNvSpPr/>
            <p:nvPr/>
          </p:nvSpPr>
          <p:spPr>
            <a:xfrm>
              <a:off x="1828800" y="4449600"/>
              <a:ext cx="2209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143000" y="462456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0000ec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76320" y="838080"/>
            <a:ext cx="571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rmas oper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/>
          </p:nvPr>
        </p:nvSpPr>
        <p:spPr>
          <a:xfrm>
            <a:off x="1447560" y="2055960"/>
            <a:ext cx="6095880" cy="14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ato Individual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pecífico, por el c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ubre una determinada operación, u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d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ES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sentido material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38080" y="4343400"/>
            <a:ext cx="7239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ato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or el cual se establece para un período de tiemp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, condiciones,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bligacio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circunstancias bajo las cuales ambas partes convienen cubrir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seguro,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 conjunto de operaciones futuras a concertar por el asegurador dir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304920" y="1447920"/>
            <a:ext cx="3047760" cy="519120"/>
            <a:chOff x="304920" y="1447920"/>
            <a:chExt cx="3047760" cy="519120"/>
          </a:xfrm>
        </p:grpSpPr>
        <p:sp>
          <p:nvSpPr>
            <p:cNvPr id="818" name=""/>
            <p:cNvSpPr/>
            <p:nvPr/>
          </p:nvSpPr>
          <p:spPr>
            <a:xfrm>
              <a:off x="762120" y="1447920"/>
              <a:ext cx="2590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ltativ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4920" y="1581120"/>
              <a:ext cx="380880" cy="252360"/>
            </a:xfrm>
            <a:prstGeom prst="rightArrow">
              <a:avLst>
                <a:gd name="adj1" fmla="val 50000"/>
                <a:gd name="adj2" fmla="val 37732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0000ec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304920" y="3657600"/>
            <a:ext cx="2666880" cy="519120"/>
            <a:chOff x="304920" y="3657600"/>
            <a:chExt cx="2666880" cy="519120"/>
          </a:xfrm>
        </p:grpSpPr>
        <p:sp>
          <p:nvSpPr>
            <p:cNvPr id="821" name=""/>
            <p:cNvSpPr/>
            <p:nvPr/>
          </p:nvSpPr>
          <p:spPr>
            <a:xfrm>
              <a:off x="762120" y="3657600"/>
              <a:ext cx="2209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4920" y="3792600"/>
              <a:ext cx="380880" cy="252360"/>
            </a:xfrm>
            <a:prstGeom prst="rightArrow">
              <a:avLst>
                <a:gd name="adj1" fmla="val 50000"/>
                <a:gd name="adj2" fmla="val 37732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0000ec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>
            <a:hlinkClick r:id="rId1" action="ppaction://hlinksldjump"/>
          </p:cNvPr>
          <p:cNvSpPr/>
          <p:nvPr/>
        </p:nvSpPr>
        <p:spPr>
          <a:xfrm>
            <a:off x="8839080" y="6629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00e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600200" y="2362320"/>
            <a:ext cx="6553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Contratos de reaseguros Automátic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>
            <a:hlinkClick r:id="rId1" action="ppaction://hlinksldjump"/>
          </p:cNvPr>
          <p:cNvSpPr/>
          <p:nvPr/>
        </p:nvSpPr>
        <p:spPr>
          <a:xfrm>
            <a:off x="8839080" y="6629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76320" y="1096920"/>
            <a:ext cx="571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alidades téc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685800" y="2209680"/>
            <a:ext cx="6553080" cy="579960"/>
            <a:chOff x="685800" y="2209680"/>
            <a:chExt cx="6553080" cy="579960"/>
          </a:xfrm>
        </p:grpSpPr>
        <p:sp>
          <p:nvSpPr>
            <p:cNvPr id="830" name=""/>
            <p:cNvSpPr/>
            <p:nvPr/>
          </p:nvSpPr>
          <p:spPr>
            <a:xfrm>
              <a:off x="1447920" y="2209680"/>
              <a:ext cx="5790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easeguros proporciona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5800" y="238608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0000ec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762120" y="4267080"/>
            <a:ext cx="7086600" cy="579960"/>
            <a:chOff x="762120" y="4267080"/>
            <a:chExt cx="7086600" cy="579960"/>
          </a:xfrm>
        </p:grpSpPr>
        <p:sp>
          <p:nvSpPr>
            <p:cNvPr id="833" name=""/>
            <p:cNvSpPr/>
            <p:nvPr/>
          </p:nvSpPr>
          <p:spPr>
            <a:xfrm>
              <a:off x="1447920" y="4267080"/>
              <a:ext cx="6400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easeguros no proporciona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62120" y="4441680"/>
              <a:ext cx="533160" cy="228600"/>
            </a:xfrm>
            <a:prstGeom prst="right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0000ec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4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1325520"/>
            <a:ext cx="5790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eguros propor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371600" y="304812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ota parte (participación pu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371600" y="471636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dentes (reaseguro de su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762120" y="2484360"/>
            <a:ext cx="769608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iga a la cesión de un porcent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jo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e de todas y cada una de las póli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ti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1295280"/>
            <a:ext cx="6781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ota parte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(participación pu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2120" y="458640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límite se establece en un valor mone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76320" y="914400"/>
            <a:ext cx="5638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6769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ota p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380880" y="2763720"/>
            <a:ext cx="8382240" cy="4094280"/>
            <a:chOff x="380880" y="2763720"/>
            <a:chExt cx="8382240" cy="4094280"/>
          </a:xfrm>
        </p:grpSpPr>
        <p:grpSp>
          <p:nvGrpSpPr>
            <p:cNvPr id="849" name=""/>
            <p:cNvGrpSpPr/>
            <p:nvPr/>
          </p:nvGrpSpPr>
          <p:grpSpPr>
            <a:xfrm>
              <a:off x="380880" y="2763720"/>
              <a:ext cx="8382240" cy="4094280"/>
              <a:chOff x="380880" y="2763720"/>
              <a:chExt cx="8382240" cy="4094280"/>
            </a:xfrm>
          </p:grpSpPr>
          <p:graphicFrame>
            <p:nvGraphicFramePr>
              <p:cNvPr id="850" name=""/>
              <p:cNvGraphicFramePr/>
              <p:nvPr/>
            </p:nvGraphicFramePr>
            <p:xfrm>
              <a:off x="617400" y="2763720"/>
              <a:ext cx="8145720" cy="409428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8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17400" y="2763720"/>
                        <a:ext cx="8145720" cy="4094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52" name=""/>
              <p:cNvSpPr/>
              <p:nvPr/>
            </p:nvSpPr>
            <p:spPr>
              <a:xfrm>
                <a:off x="3429000" y="6172200"/>
                <a:ext cx="1600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Suma Asegurad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6200000">
                <a:off x="-266400" y="3999960"/>
                <a:ext cx="1600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Capac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 flipV="1">
              <a:off x="2286000" y="4557240"/>
              <a:ext cx="4724280" cy="76212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362320" y="4343400"/>
              <a:ext cx="1904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Arial"/>
                </a:rPr>
                <a:t>Retenc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981080" y="6324480"/>
              <a:ext cx="5181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2133720" y="1692360"/>
            <a:ext cx="61722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6769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ció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20%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6769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sión     : 80%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ímite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533520" y="1471680"/>
            <a:ext cx="845820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transfiere parte de las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ligaci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umid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todas las pólizas sino en aquéllas cu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gurada supera la retención (Pleno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685800"/>
            <a:ext cx="7696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dentes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(reaseguro de su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3520" y="4676760"/>
            <a:ext cx="853416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esión es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proporción reasegurada es diferente en cada póliz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pendiendo de la  relación entre suma asegurada y pl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33520" y="6119640"/>
            <a:ext cx="8458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límite se establece en números de pl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3179880"/>
            <a:ext cx="8458200" cy="11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es un importe en valor absol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presenta el monto máximo que se está dis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afrontar en un siniestro 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875880"/>
            <a:ext cx="2286000" cy="56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Reinsu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nich 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iss 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kshire Hatha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 I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Frank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G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nnover 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rling Global 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loyd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lia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ver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32440" y="838080"/>
            <a:ext cx="1658880" cy="61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Jul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- (ne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+ (ne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- (ne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- (ne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A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BB+ (ne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17640" y="837720"/>
            <a:ext cx="1625760" cy="62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5000"/>
              </a:lnSpc>
              <a:spcBef>
                <a:spcPts val="15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11 Sep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52960" y="838080"/>
            <a:ext cx="120996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pr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BB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56320" y="838080"/>
            <a:ext cx="115416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ot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Reinsurers Down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6553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ource: A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2819520" y="1290600"/>
            <a:ext cx="533376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6769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eno:   4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6769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ímite: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4 plenos  =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6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6769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pacidad:  2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6320" y="833400"/>
            <a:ext cx="3429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6769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x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304920" y="2590920"/>
            <a:ext cx="8610480" cy="4038480"/>
            <a:chOff x="304920" y="2590920"/>
            <a:chExt cx="8610480" cy="4038480"/>
          </a:xfrm>
        </p:grpSpPr>
        <p:sp>
          <p:nvSpPr>
            <p:cNvPr id="870" name=""/>
            <p:cNvSpPr/>
            <p:nvPr/>
          </p:nvSpPr>
          <p:spPr>
            <a:xfrm>
              <a:off x="1143000" y="2819520"/>
              <a:ext cx="6705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1" name=""/>
            <p:cNvGraphicFramePr/>
            <p:nvPr/>
          </p:nvGraphicFramePr>
          <p:xfrm>
            <a:off x="609480" y="2590920"/>
            <a:ext cx="8305920" cy="40384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2590920"/>
                      <a:ext cx="8305920" cy="403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3" name=""/>
            <p:cNvSpPr/>
            <p:nvPr/>
          </p:nvSpPr>
          <p:spPr>
            <a:xfrm>
              <a:off x="3809880" y="6324480"/>
              <a:ext cx="1600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Suma Asegur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6200000">
              <a:off x="-342720" y="3847680"/>
              <a:ext cx="1600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Capac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2133720" y="5060520"/>
              <a:ext cx="1523880" cy="30492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657600" y="5060880"/>
              <a:ext cx="3733920" cy="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362320" y="4419720"/>
              <a:ext cx="2133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Arial"/>
                </a:rPr>
                <a:t>Retenc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76320" y="1173240"/>
            <a:ext cx="6172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eguros no propor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28600" y="2360520"/>
            <a:ext cx="563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o de pérdida por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28600" y="318276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o de pérdida por aconteci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28600" y="400680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o de pérdida catastrófic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28600" y="5653080"/>
            <a:ext cx="9296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ción de siniestralidad – stop loss – por cedent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28600" y="482904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mitación de siniestralidad - stop loss - por r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1066680" y="2209680"/>
            <a:ext cx="75438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re los siniestros pagados por enci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valor absoluto (Priorida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6320" y="1143000"/>
            <a:ext cx="571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/L por riesgo y/o ev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6680" y="3835440"/>
            <a:ext cx="365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ede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066680" y="4894200"/>
            <a:ext cx="80773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ga un costo espec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ultante de la estimación de primas a emitir,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mposición de la cartera y los siniestros produc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066680" y="2514600"/>
            <a:ext cx="640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teras conformadas y es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6320" y="1173240"/>
            <a:ext cx="7924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/L por riesgo y/o evento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- Ut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066680" y="378288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teras de escasa frecuencia sinies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066680" y="5052960"/>
            <a:ext cx="79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teras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puestas a siniestros de int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1219320" y="1824120"/>
            <a:ext cx="66294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bertura de resultados anuales cu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iestralidad de un ramo supe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do porcentaje de las pri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udadas por el asegurador dir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143000" y="2819520"/>
            <a:ext cx="6705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6320" y="990720"/>
            <a:ext cx="3809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loss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914400" y="5468760"/>
            <a:ext cx="7543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4040" indent="-2840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teras expuestas a severos desvíos de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cuencia siniestral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e int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320" y="4678200"/>
            <a:ext cx="5105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loss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- Ut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c1"/>
            </a:gs>
            <a:gs pos="100000">
              <a:srgbClr val="0000e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2514600" y="6094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ec"/>
                </a:solidFill>
                <a:latin typeface="Times New Roman MT Extra Bold"/>
              </a:rPr>
              <a:t>Dra. Nancy Vil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095560" y="29718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324160" y="4952880"/>
            <a:ext cx="449568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Estudio Vilá &amp; Asociados - Abogados</a:t>
            </a:r>
            <a:br>
              <a:rPr sz="1600"/>
            </a:b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Belgrano 313 5° y  6°  Piso - San Isidro</a:t>
            </a:r>
            <a:br>
              <a:rPr sz="1600"/>
            </a:b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  Buenos Aires - República Argentina</a:t>
            </a:r>
            <a:br>
              <a:rPr sz="1600"/>
            </a:b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+ 54 11 4732 1959 navila@sinectis.com.ar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"/>
            </a:br>
            <a:r>
              <a:rPr b="0" lang="es-AR" sz="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TODOS LOS DERECHOS RESERVADOS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>
            <a:hlinkClick r:id="rId1" action="ppaction://hlinksldjump"/>
          </p:cNvPr>
          <p:cNvSpPr/>
          <p:nvPr/>
        </p:nvSpPr>
        <p:spPr>
          <a:xfrm>
            <a:off x="8839080" y="6629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9440" y="761760"/>
            <a:ext cx="9034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ñales de una corrección del mercado - 4to trimestr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851760" y="1444680"/>
            <a:ext cx="7584120" cy="5261040"/>
            <a:chOff x="851760" y="1444680"/>
            <a:chExt cx="7584120" cy="5261040"/>
          </a:xfrm>
        </p:grpSpPr>
        <p:sp>
          <p:nvSpPr>
            <p:cNvPr id="73" name=""/>
            <p:cNvSpPr/>
            <p:nvPr/>
          </p:nvSpPr>
          <p:spPr>
            <a:xfrm>
              <a:off x="1157400" y="5318280"/>
              <a:ext cx="727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57400" y="5051520"/>
              <a:ext cx="727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57400" y="4776840"/>
              <a:ext cx="727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7400" y="4502160"/>
              <a:ext cx="727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57400" y="4235400"/>
              <a:ext cx="7277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57400" y="3960720"/>
              <a:ext cx="7277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57400" y="3686040"/>
              <a:ext cx="7277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43000" y="3432240"/>
              <a:ext cx="727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57400" y="3144960"/>
              <a:ext cx="727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57400" y="2870280"/>
              <a:ext cx="727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57400" y="2603520"/>
              <a:ext cx="727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57400" y="2328840"/>
              <a:ext cx="727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57400" y="2054160"/>
              <a:ext cx="7277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57400" y="1787400"/>
              <a:ext cx="7277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57400" y="1512720"/>
              <a:ext cx="7277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57400" y="1512720"/>
              <a:ext cx="1440" cy="4079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19240" y="5592600"/>
              <a:ext cx="38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9240" y="5318280"/>
              <a:ext cx="38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19240" y="5051520"/>
              <a:ext cx="38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19240" y="4776840"/>
              <a:ext cx="38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19240" y="4502160"/>
              <a:ext cx="38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19240" y="4235400"/>
              <a:ext cx="38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19240" y="3960720"/>
              <a:ext cx="38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19240" y="3686040"/>
              <a:ext cx="38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19240" y="3419640"/>
              <a:ext cx="38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19240" y="3144960"/>
              <a:ext cx="38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19240" y="2870280"/>
              <a:ext cx="38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19240" y="2603520"/>
              <a:ext cx="38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19240" y="2328840"/>
              <a:ext cx="38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19240" y="2054160"/>
              <a:ext cx="38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19240" y="1787400"/>
              <a:ext cx="38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19240" y="1512720"/>
              <a:ext cx="38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57400" y="5592600"/>
              <a:ext cx="7277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157400" y="5592600"/>
              <a:ext cx="144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766880" y="5592600"/>
              <a:ext cx="144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368440" y="5592600"/>
              <a:ext cx="180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2978280" y="5592600"/>
              <a:ext cx="144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581280" y="5592600"/>
              <a:ext cx="180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191120" y="5592600"/>
              <a:ext cx="144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800600" y="5592600"/>
              <a:ext cx="144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402160" y="5592600"/>
              <a:ext cx="180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012000" y="5592600"/>
              <a:ext cx="144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613560" y="5592600"/>
              <a:ext cx="144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223040" y="5592600"/>
              <a:ext cx="180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824960" y="5592600"/>
              <a:ext cx="144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434440" y="5592600"/>
              <a:ext cx="144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461960" y="5264280"/>
              <a:ext cx="601920" cy="5400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063880" y="5051160"/>
              <a:ext cx="609480" cy="21276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673360" y="4937040"/>
              <a:ext cx="609480" cy="11448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282840" y="4722480"/>
              <a:ext cx="603360" cy="21420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86200" y="4638600"/>
              <a:ext cx="609480" cy="8424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495680" y="4151160"/>
              <a:ext cx="601920" cy="48744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097600" y="2922120"/>
              <a:ext cx="609480" cy="122868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707080" y="1893600"/>
              <a:ext cx="601560" cy="102852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08640" y="1893960"/>
              <a:ext cx="609840" cy="16020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918480" y="1839600"/>
              <a:ext cx="609480" cy="21420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461960" y="5187960"/>
              <a:ext cx="601920" cy="13032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063880" y="5103720"/>
              <a:ext cx="609480" cy="8424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673360" y="5019480"/>
              <a:ext cx="609480" cy="8388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282840" y="4829040"/>
              <a:ext cx="603360" cy="19080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86200" y="4744800"/>
              <a:ext cx="609480" cy="8388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495680" y="4692600"/>
              <a:ext cx="601920" cy="5256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097600" y="4638600"/>
              <a:ext cx="609480" cy="5400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707080" y="4501800"/>
              <a:ext cx="601560" cy="13644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308640" y="4448160"/>
              <a:ext cx="609840" cy="5400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918480" y="4425840"/>
              <a:ext cx="609480" cy="2232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461960" y="5211720"/>
              <a:ext cx="601920" cy="10656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063880" y="5127480"/>
              <a:ext cx="609480" cy="8424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673360" y="4997160"/>
              <a:ext cx="609480" cy="12996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282840" y="4829040"/>
              <a:ext cx="603360" cy="16848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886200" y="4668480"/>
              <a:ext cx="609480" cy="16020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495680" y="4371480"/>
              <a:ext cx="601920" cy="29700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097600" y="3990960"/>
              <a:ext cx="609480" cy="38088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707080" y="3769920"/>
              <a:ext cx="601560" cy="22068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308640" y="3555720"/>
              <a:ext cx="609840" cy="21420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918480" y="3387600"/>
              <a:ext cx="609480" cy="16848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461960" y="5127480"/>
              <a:ext cx="601920" cy="1908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063880" y="5089320"/>
              <a:ext cx="609480" cy="378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673360" y="4913280"/>
              <a:ext cx="609480" cy="1764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282840" y="4806720"/>
              <a:ext cx="603360" cy="1062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86200" y="4287960"/>
              <a:ext cx="609480" cy="51912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495680" y="3495240"/>
              <a:ext cx="601920" cy="7923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097600" y="2869920"/>
              <a:ext cx="609480" cy="62532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707080" y="2190600"/>
              <a:ext cx="601560" cy="6796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308640" y="1809720"/>
              <a:ext cx="609840" cy="3808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918480" y="1542600"/>
              <a:ext cx="609480" cy="2667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461960" y="5293800"/>
              <a:ext cx="601920" cy="241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063880" y="5211360"/>
              <a:ext cx="609480" cy="82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673360" y="5073480"/>
              <a:ext cx="609480" cy="1382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282840" y="4936680"/>
              <a:ext cx="603360" cy="136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86200" y="4776480"/>
              <a:ext cx="609480" cy="1602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495680" y="4692600"/>
              <a:ext cx="601920" cy="842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097600" y="4287960"/>
              <a:ext cx="609480" cy="4046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707080" y="3906360"/>
              <a:ext cx="601560" cy="3812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308640" y="3525840"/>
              <a:ext cx="609840" cy="3808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918480" y="3365280"/>
              <a:ext cx="609480" cy="1602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461960" y="5264280"/>
              <a:ext cx="601920" cy="5400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063880" y="5103720"/>
              <a:ext cx="609480" cy="16056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673360" y="4882680"/>
              <a:ext cx="609480" cy="22068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282840" y="4776480"/>
              <a:ext cx="603360" cy="10620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886200" y="4586040"/>
              <a:ext cx="609480" cy="19044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495680" y="4235040"/>
              <a:ext cx="601920" cy="35100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097600" y="3800520"/>
              <a:ext cx="609480" cy="43488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707080" y="3365640"/>
              <a:ext cx="601560" cy="43488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308640" y="3144600"/>
              <a:ext cx="609840" cy="22068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918480" y="2954160"/>
              <a:ext cx="609480" cy="19080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461960" y="5264280"/>
              <a:ext cx="601920" cy="5400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063880" y="5241960"/>
              <a:ext cx="609480" cy="2232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673360" y="5103720"/>
              <a:ext cx="609480" cy="1382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282840" y="5019480"/>
              <a:ext cx="603360" cy="8388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86200" y="4883040"/>
              <a:ext cx="609480" cy="13680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495680" y="4554000"/>
              <a:ext cx="601920" cy="32868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097600" y="4181400"/>
              <a:ext cx="609480" cy="37296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707080" y="3852360"/>
              <a:ext cx="601560" cy="32868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308640" y="3715920"/>
              <a:ext cx="609840" cy="136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18480" y="3716280"/>
              <a:ext cx="609480" cy="2232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461960" y="5241960"/>
              <a:ext cx="601920" cy="7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063880" y="5187960"/>
              <a:ext cx="609480" cy="54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673360" y="5103720"/>
              <a:ext cx="609480" cy="84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282840" y="4936680"/>
              <a:ext cx="60336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886200" y="4860720"/>
              <a:ext cx="609480" cy="7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95680" y="4311720"/>
              <a:ext cx="601920" cy="549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97600" y="4311720"/>
              <a:ext cx="60948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707080" y="4121280"/>
              <a:ext cx="601560" cy="357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308640" y="3906720"/>
              <a:ext cx="609840" cy="214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18480" y="3906720"/>
              <a:ext cx="609480" cy="84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461960" y="5187960"/>
              <a:ext cx="601920" cy="13032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063880" y="5051160"/>
              <a:ext cx="609480" cy="13644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673360" y="4967280"/>
              <a:ext cx="609480" cy="8424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282840" y="4586400"/>
              <a:ext cx="603360" cy="38088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886200" y="4502160"/>
              <a:ext cx="609480" cy="8424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495680" y="4150800"/>
              <a:ext cx="601920" cy="35100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097600" y="3686040"/>
              <a:ext cx="609480" cy="46512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707080" y="3387240"/>
              <a:ext cx="601560" cy="29844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308640" y="3304800"/>
              <a:ext cx="609840" cy="8244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918480" y="3281400"/>
              <a:ext cx="609480" cy="2376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32080" y="5288040"/>
              <a:ext cx="6012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33640" y="5234040"/>
              <a:ext cx="61920" cy="6012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0"/>
                  </a:moveTo>
                  <a:lnTo>
                    <a:pt x="39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43120" y="501984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20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52960" y="490536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20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54520" y="469260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0"/>
                  </a:moveTo>
                  <a:lnTo>
                    <a:pt x="39" y="19"/>
                  </a:lnTo>
                  <a:lnTo>
                    <a:pt x="20" y="38"/>
                  </a:lnTo>
                  <a:lnTo>
                    <a:pt x="0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64000" y="460836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0"/>
                  </a:moveTo>
                  <a:lnTo>
                    <a:pt x="39" y="19"/>
                  </a:lnTo>
                  <a:lnTo>
                    <a:pt x="20" y="38"/>
                  </a:lnTo>
                  <a:lnTo>
                    <a:pt x="0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67360" y="4121280"/>
              <a:ext cx="6012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76840" y="2892600"/>
              <a:ext cx="60480" cy="61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0"/>
                  </a:moveTo>
                  <a:lnTo>
                    <a:pt x="38" y="19"/>
                  </a:lnTo>
                  <a:lnTo>
                    <a:pt x="19" y="3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78400" y="1863720"/>
              <a:ext cx="6048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88240" y="2023920"/>
              <a:ext cx="6012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32080" y="5288040"/>
              <a:ext cx="52200" cy="5220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33640" y="5157720"/>
              <a:ext cx="54000" cy="5400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43120" y="5073480"/>
              <a:ext cx="54000" cy="5400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52960" y="4989600"/>
              <a:ext cx="53640" cy="5400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54520" y="4799160"/>
              <a:ext cx="54000" cy="5400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64000" y="4714920"/>
              <a:ext cx="54000" cy="5400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67360" y="4662360"/>
              <a:ext cx="52200" cy="5256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76840" y="4608360"/>
              <a:ext cx="52560" cy="5400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78400" y="4471920"/>
              <a:ext cx="54000" cy="5256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88240" y="4417920"/>
              <a:ext cx="54000" cy="5400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32080" y="5288040"/>
              <a:ext cx="6012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38"/>
                  </a:lnTo>
                  <a:lnTo>
                    <a:pt x="0" y="3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33640" y="518004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43120" y="509580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52960" y="496728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0"/>
                  </a:moveTo>
                  <a:lnTo>
                    <a:pt x="39" y="38"/>
                  </a:lnTo>
                  <a:lnTo>
                    <a:pt x="0" y="3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54520" y="479916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0"/>
                  </a:moveTo>
                  <a:lnTo>
                    <a:pt x="39" y="39"/>
                  </a:lnTo>
                  <a:lnTo>
                    <a:pt x="0" y="3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64000" y="463860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0"/>
                  </a:moveTo>
                  <a:lnTo>
                    <a:pt x="39" y="39"/>
                  </a:lnTo>
                  <a:lnTo>
                    <a:pt x="0" y="3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67360" y="4341960"/>
              <a:ext cx="6012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38"/>
                  </a:lnTo>
                  <a:lnTo>
                    <a:pt x="0" y="3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76840" y="3960720"/>
              <a:ext cx="6048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38"/>
                  </a:lnTo>
                  <a:lnTo>
                    <a:pt x="0" y="3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78400" y="3738600"/>
              <a:ext cx="6048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0"/>
                  </a:moveTo>
                  <a:lnTo>
                    <a:pt x="38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88240" y="3525840"/>
              <a:ext cx="6012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38"/>
                  </a:lnTo>
                  <a:lnTo>
                    <a:pt x="0" y="3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32080" y="5288040"/>
              <a:ext cx="6012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33640" y="509580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20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43120" y="505764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20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52960" y="488304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0"/>
                  </a:moveTo>
                  <a:lnTo>
                    <a:pt x="39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54520" y="4776840"/>
              <a:ext cx="61920" cy="6012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0"/>
                  </a:moveTo>
                  <a:lnTo>
                    <a:pt x="39" y="19"/>
                  </a:lnTo>
                  <a:lnTo>
                    <a:pt x="20" y="38"/>
                  </a:lnTo>
                  <a:lnTo>
                    <a:pt x="0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64000" y="4257720"/>
              <a:ext cx="61920" cy="6012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0"/>
                  </a:moveTo>
                  <a:lnTo>
                    <a:pt x="39" y="19"/>
                  </a:lnTo>
                  <a:lnTo>
                    <a:pt x="20" y="38"/>
                  </a:lnTo>
                  <a:lnTo>
                    <a:pt x="0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67360" y="3463920"/>
              <a:ext cx="6012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0"/>
                  </a:moveTo>
                  <a:lnTo>
                    <a:pt x="38" y="20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76840" y="2840040"/>
              <a:ext cx="6048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78400" y="216072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88240" y="1779480"/>
              <a:ext cx="6012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7497720" y="1512720"/>
              <a:ext cx="663480" cy="2935080"/>
              <a:chOff x="7497720" y="1512720"/>
              <a:chExt cx="663480" cy="2935080"/>
            </a:xfrm>
          </p:grpSpPr>
          <p:sp>
            <p:nvSpPr>
              <p:cNvPr id="250" name=""/>
              <p:cNvSpPr/>
              <p:nvPr/>
            </p:nvSpPr>
            <p:spPr>
              <a:xfrm flipV="1">
                <a:off x="7527960" y="1733040"/>
                <a:ext cx="601560" cy="106200"/>
              </a:xfrm>
              <a:prstGeom prst="line">
                <a:avLst/>
              </a:prstGeom>
              <a:ln w="79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527960" y="4257000"/>
                <a:ext cx="601560" cy="168120"/>
              </a:xfrm>
              <a:prstGeom prst="line">
                <a:avLst/>
              </a:prstGeom>
              <a:ln w="7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7527960" y="3144240"/>
                <a:ext cx="601560" cy="243000"/>
              </a:xfrm>
              <a:prstGeom prst="line">
                <a:avLst/>
              </a:prstGeom>
              <a:ln w="79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527960" y="1542600"/>
                <a:ext cx="601560" cy="7632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7527960" y="2921760"/>
                <a:ext cx="601560" cy="44316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7527960" y="2900160"/>
                <a:ext cx="601560" cy="54000"/>
              </a:xfrm>
              <a:prstGeom prst="line">
                <a:avLst/>
              </a:prstGeom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7527960" y="3579120"/>
                <a:ext cx="601560" cy="15876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527960" y="3990600"/>
                <a:ext cx="601560" cy="54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7527960" y="3250800"/>
                <a:ext cx="601560" cy="30240"/>
              </a:xfrm>
              <a:prstGeom prst="line">
                <a:avLst/>
              </a:prstGeom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97720" y="1809360"/>
                <a:ext cx="60480" cy="6192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99280" y="17031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97720" y="4395600"/>
                <a:ext cx="54000" cy="52200"/>
              </a:xfrm>
              <a:prstGeom prst="rect">
                <a:avLst/>
              </a:prstGeom>
              <a:solidFill>
                <a:srgbClr val="ffff00"/>
              </a:solidFill>
              <a:ln w="7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99280" y="4227120"/>
                <a:ext cx="54000" cy="52560"/>
              </a:xfrm>
              <a:prstGeom prst="rect">
                <a:avLst/>
              </a:prstGeom>
              <a:solidFill>
                <a:srgbClr val="ffff00"/>
              </a:solidFill>
              <a:ln w="7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497720" y="3357360"/>
                <a:ext cx="60480" cy="6192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39"/>
                    </a:lnTo>
                    <a:lnTo>
                      <a:pt x="0" y="3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ff00"/>
              </a:solidFill>
              <a:ln w="7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099280" y="3114360"/>
                <a:ext cx="61920" cy="604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38"/>
                    </a:lnTo>
                    <a:lnTo>
                      <a:pt x="0" y="38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ff00"/>
              </a:solidFill>
              <a:ln w="7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497720" y="1512720"/>
                <a:ext cx="60480" cy="601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6600"/>
              </a:solidFill>
              <a:ln w="79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099280" y="1588680"/>
                <a:ext cx="61920" cy="604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6600"/>
              </a:solidFill>
              <a:ln w="79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432080" y="5288040"/>
              <a:ext cx="6804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1431720" y="5288040"/>
              <a:ext cx="29880" cy="302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61960" y="5318280"/>
              <a:ext cx="30240" cy="298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1431720" y="5318280"/>
              <a:ext cx="29880" cy="298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461960" y="5288040"/>
              <a:ext cx="30240" cy="302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1461960" y="5288040"/>
              <a:ext cx="1800" cy="302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61960" y="5318280"/>
              <a:ext cx="1800" cy="298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851760" y="1444680"/>
              <a:ext cx="7315920" cy="4422600"/>
              <a:chOff x="851760" y="1444680"/>
              <a:chExt cx="7315920" cy="4422600"/>
            </a:xfrm>
          </p:grpSpPr>
          <p:sp>
            <p:nvSpPr>
              <p:cNvPr id="275" name=""/>
              <p:cNvSpPr/>
              <p:nvPr/>
            </p:nvSpPr>
            <p:spPr>
              <a:xfrm>
                <a:off x="2033640" y="5263920"/>
                <a:ext cx="6804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>
                <a:off x="2033640" y="526356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63880" y="5294160"/>
                <a:ext cx="3168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2033640" y="5294160"/>
                <a:ext cx="3024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2063880" y="5263560"/>
                <a:ext cx="3168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2063880" y="526356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063880" y="5294160"/>
                <a:ext cx="144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43120" y="5179680"/>
                <a:ext cx="6840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2643120" y="5179320"/>
                <a:ext cx="3024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673360" y="5211360"/>
                <a:ext cx="3168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643120" y="521136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673360" y="5179320"/>
                <a:ext cx="3168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2673360" y="5179320"/>
                <a:ext cx="144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73360" y="521136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52960" y="5043240"/>
                <a:ext cx="6804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3252600" y="5042880"/>
                <a:ext cx="2988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82840" y="5073480"/>
                <a:ext cx="3204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3252600" y="5073480"/>
                <a:ext cx="2988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3282840" y="5042880"/>
                <a:ext cx="320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3282840" y="5042880"/>
                <a:ext cx="180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82840" y="5073480"/>
                <a:ext cx="180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54520" y="4905000"/>
                <a:ext cx="6984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3854520" y="4904640"/>
                <a:ext cx="3168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886200" y="493668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3854520" y="4936680"/>
                <a:ext cx="3168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3886200" y="4904640"/>
                <a:ext cx="3024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3886200" y="4904640"/>
                <a:ext cx="144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886200" y="493668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64000" y="4744800"/>
                <a:ext cx="6984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4464000" y="4744440"/>
                <a:ext cx="3168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95680" y="477648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4464000" y="4776480"/>
                <a:ext cx="3168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4495680" y="4744440"/>
                <a:ext cx="3024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4495680" y="4744440"/>
                <a:ext cx="180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495680" y="4776480"/>
                <a:ext cx="180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067360" y="4662360"/>
                <a:ext cx="6804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flipV="1">
                <a:off x="5067360" y="4662360"/>
                <a:ext cx="3024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097600" y="4692240"/>
                <a:ext cx="2988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5067360" y="469224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5097600" y="4662360"/>
                <a:ext cx="2988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5097600" y="4662360"/>
                <a:ext cx="144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97600" y="469224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76840" y="4257360"/>
                <a:ext cx="68400" cy="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flipV="1">
                <a:off x="5676840" y="425700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07080" y="428760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5676840" y="428760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5707080" y="425700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5707080" y="425700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07080" y="428760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278400" y="3876480"/>
                <a:ext cx="6840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flipV="1">
                <a:off x="6278400" y="387612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308640" y="3906720"/>
                <a:ext cx="3024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6278400" y="3906720"/>
                <a:ext cx="3024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308640" y="387612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6308640" y="3876120"/>
                <a:ext cx="180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308640" y="3906720"/>
                <a:ext cx="180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888240" y="3495240"/>
                <a:ext cx="68040" cy="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flipV="1">
                <a:off x="6888240" y="349488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918480" y="3525480"/>
                <a:ext cx="2988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6888240" y="352548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6918480" y="3494880"/>
                <a:ext cx="2988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6918480" y="349488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918480" y="352548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497720" y="3335040"/>
                <a:ext cx="68400" cy="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7497720" y="333468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527960" y="336528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7497720" y="336528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7527960" y="333468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7527960" y="333468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527960" y="336528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099280" y="2892240"/>
                <a:ext cx="6840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8099280" y="2892240"/>
                <a:ext cx="3024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129520" y="2922120"/>
                <a:ext cx="31680" cy="316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8099280" y="2922120"/>
                <a:ext cx="30240" cy="316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8129520" y="2892240"/>
                <a:ext cx="3168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8129520" y="2892240"/>
                <a:ext cx="180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129520" y="2922120"/>
                <a:ext cx="1800" cy="316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32080" y="5287680"/>
                <a:ext cx="52200" cy="5184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33640" y="5233680"/>
                <a:ext cx="54000" cy="5364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43120" y="5073480"/>
                <a:ext cx="54000" cy="5364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52960" y="4852800"/>
                <a:ext cx="53640" cy="5184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54520" y="4744800"/>
                <a:ext cx="54000" cy="5364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464000" y="4554360"/>
                <a:ext cx="54000" cy="5364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067360" y="4203360"/>
                <a:ext cx="52200" cy="5364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76840" y="3769920"/>
                <a:ext cx="52560" cy="5220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278400" y="3335040"/>
                <a:ext cx="54000" cy="5220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888240" y="3114360"/>
                <a:ext cx="54000" cy="5220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497720" y="2922120"/>
                <a:ext cx="54000" cy="5364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099280" y="2869920"/>
                <a:ext cx="54000" cy="5184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432080" y="5287680"/>
                <a:ext cx="68040" cy="680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1461960" y="5287320"/>
                <a:ext cx="180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461960" y="5317920"/>
                <a:ext cx="180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431720" y="5317920"/>
                <a:ext cx="2988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461960" y="5317920"/>
                <a:ext cx="3024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033640" y="5233680"/>
                <a:ext cx="68040" cy="680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2063880" y="5233320"/>
                <a:ext cx="144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063880" y="5263920"/>
                <a:ext cx="144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2033640" y="5263920"/>
                <a:ext cx="3024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063880" y="5263920"/>
                <a:ext cx="3168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643120" y="5211360"/>
                <a:ext cx="68400" cy="680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2673360" y="5211000"/>
                <a:ext cx="144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673360" y="5241600"/>
                <a:ext cx="144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2643120" y="5241600"/>
                <a:ext cx="3024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673360" y="5241600"/>
                <a:ext cx="3168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52960" y="5073480"/>
                <a:ext cx="68040" cy="676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3282840" y="5073480"/>
                <a:ext cx="1800" cy="2952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282840" y="5103360"/>
                <a:ext cx="180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3252600" y="5103360"/>
                <a:ext cx="2988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282840" y="5103360"/>
                <a:ext cx="3204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54520" y="4989240"/>
                <a:ext cx="69840" cy="680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3886200" y="4988880"/>
                <a:ext cx="144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886200" y="5019480"/>
                <a:ext cx="1440" cy="3132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3854520" y="5019480"/>
                <a:ext cx="3168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886200" y="5019480"/>
                <a:ext cx="3024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464000" y="4852800"/>
                <a:ext cx="69840" cy="676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4495680" y="4852800"/>
                <a:ext cx="1800" cy="2952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95680" y="4882680"/>
                <a:ext cx="180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4464000" y="4882680"/>
                <a:ext cx="3168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495680" y="4882680"/>
                <a:ext cx="3024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067360" y="4524120"/>
                <a:ext cx="68040" cy="680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5097600" y="4523760"/>
                <a:ext cx="144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97600" y="4554360"/>
                <a:ext cx="1440" cy="3132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5067360" y="4554360"/>
                <a:ext cx="3024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97600" y="4554360"/>
                <a:ext cx="2988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76840" y="4151160"/>
                <a:ext cx="68400" cy="676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5707080" y="4151160"/>
                <a:ext cx="1440" cy="2952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707080" y="4181040"/>
                <a:ext cx="144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5676840" y="4181040"/>
                <a:ext cx="3024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707080" y="4181040"/>
                <a:ext cx="3024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278400" y="3822480"/>
                <a:ext cx="68400" cy="676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6308640" y="3822120"/>
                <a:ext cx="180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308640" y="3852720"/>
                <a:ext cx="1800" cy="3132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6278400" y="3852720"/>
                <a:ext cx="3024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308640" y="3852720"/>
                <a:ext cx="3024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888240" y="3686040"/>
                <a:ext cx="68040" cy="676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6918480" y="3686040"/>
                <a:ext cx="1440" cy="2952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918480" y="3715920"/>
                <a:ext cx="144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6888240" y="3715920"/>
                <a:ext cx="3024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918480" y="3715920"/>
                <a:ext cx="2988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497720" y="3708000"/>
                <a:ext cx="68400" cy="680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7527960" y="3707640"/>
                <a:ext cx="144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527960" y="3738240"/>
                <a:ext cx="1440" cy="3132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7497720" y="3738240"/>
                <a:ext cx="3024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527960" y="3738240"/>
                <a:ext cx="3024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9280" y="3547800"/>
                <a:ext cx="68400" cy="694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8129520" y="3547440"/>
                <a:ext cx="1800" cy="3132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129520" y="3579480"/>
                <a:ext cx="180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8099280" y="3579480"/>
                <a:ext cx="3024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129520" y="3579480"/>
                <a:ext cx="3168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461960" y="5310000"/>
                <a:ext cx="3024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063880" y="5233680"/>
                <a:ext cx="3168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673360" y="5179680"/>
                <a:ext cx="3168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282840" y="5095440"/>
                <a:ext cx="3204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886200" y="4928760"/>
                <a:ext cx="3024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495680" y="4852800"/>
                <a:ext cx="3024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097600" y="4303440"/>
                <a:ext cx="2988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707080" y="4471560"/>
                <a:ext cx="30240" cy="612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308640" y="4113000"/>
                <a:ext cx="3024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918480" y="3898440"/>
                <a:ext cx="29880" cy="792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27960" y="3982680"/>
                <a:ext cx="3024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129520" y="4036680"/>
                <a:ext cx="3168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432080" y="5310000"/>
                <a:ext cx="6012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33640" y="5179680"/>
                <a:ext cx="6192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643120" y="5043240"/>
                <a:ext cx="6192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252960" y="4959000"/>
                <a:ext cx="6192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854520" y="4578120"/>
                <a:ext cx="6192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464000" y="4493880"/>
                <a:ext cx="6192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067360" y="4143240"/>
                <a:ext cx="6012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76840" y="3678120"/>
                <a:ext cx="6048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278400" y="3381120"/>
                <a:ext cx="60480" cy="612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88240" y="3296880"/>
                <a:ext cx="6012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497720" y="3273120"/>
                <a:ext cx="6048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099280" y="3242880"/>
                <a:ext cx="6192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920520" y="55227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51760" y="52495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51760" y="49813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51760" y="47066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51760" y="44337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51760" y="416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51760" y="38905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51760" y="36176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6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51760" y="33494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7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51760" y="30747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8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51760" y="28015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9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1760" y="25333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51760" y="22604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51760" y="19857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51760" y="17175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1760" y="144468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2436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0 Q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82592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0 Q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43720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0 Q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04668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0 Q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64860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1 Q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5808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1 Q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85964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1 Q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46912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1 Q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07104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2 Q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68052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2 Q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29000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2 Q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7893360" y="571500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2002 Q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1614600" y="6224760"/>
              <a:ext cx="5913360" cy="480960"/>
              <a:chOff x="1614600" y="6224760"/>
              <a:chExt cx="5913360" cy="480960"/>
            </a:xfrm>
          </p:grpSpPr>
          <p:sp>
            <p:nvSpPr>
              <p:cNvPr id="477" name=""/>
              <p:cNvSpPr/>
              <p:nvPr/>
            </p:nvSpPr>
            <p:spPr>
              <a:xfrm>
                <a:off x="1614600" y="6224760"/>
                <a:ext cx="5913360" cy="4809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881360" y="6321600"/>
                <a:ext cx="252360" cy="1800"/>
              </a:xfrm>
              <a:prstGeom prst="line">
                <a:avLst/>
              </a:prstGeom>
              <a:ln w="79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973160" y="6289920"/>
                <a:ext cx="60480" cy="6192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163600" y="6245640"/>
                <a:ext cx="50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vi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54520" y="6321600"/>
                <a:ext cx="252360" cy="1800"/>
              </a:xfrm>
              <a:prstGeom prst="line">
                <a:avLst/>
              </a:prstGeom>
              <a:ln w="7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946680" y="6289920"/>
                <a:ext cx="54000" cy="54000"/>
              </a:xfrm>
              <a:prstGeom prst="rect">
                <a:avLst/>
              </a:prstGeom>
              <a:solidFill>
                <a:srgbClr val="ffff00"/>
              </a:solidFill>
              <a:ln w="7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137480" y="6245640"/>
                <a:ext cx="35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o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29480" y="6321600"/>
                <a:ext cx="250560" cy="1800"/>
              </a:xfrm>
              <a:prstGeom prst="line">
                <a:avLst/>
              </a:prstGeom>
              <a:ln w="79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919840" y="628992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0" y="0"/>
                    </a:moveTo>
                    <a:lnTo>
                      <a:pt x="39" y="39"/>
                    </a:lnTo>
                    <a:lnTo>
                      <a:pt x="0" y="3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ff00"/>
              </a:solidFill>
              <a:ln w="7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09920" y="6245640"/>
                <a:ext cx="759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ofessio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881360" y="6474240"/>
                <a:ext cx="252360" cy="144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73160" y="6444000"/>
                <a:ext cx="60480" cy="601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6600"/>
              </a:solidFill>
              <a:ln w="79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163600" y="6397920"/>
                <a:ext cx="42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854520" y="6474240"/>
                <a:ext cx="252360" cy="144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946680" y="6444000"/>
                <a:ext cx="68040" cy="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3946320" y="6444000"/>
                <a:ext cx="29880" cy="3024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976560" y="647424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3946320" y="6474240"/>
                <a:ext cx="2988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3976560" y="6444000"/>
                <a:ext cx="30240" cy="3024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976560" y="6444000"/>
                <a:ext cx="1800" cy="3024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976560" y="6474240"/>
                <a:ext cx="180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137120" y="6397920"/>
                <a:ext cx="1210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on-Marine Liabilit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829480" y="6474240"/>
                <a:ext cx="250560" cy="1440"/>
              </a:xfrm>
              <a:prstGeom prst="line">
                <a:avLst/>
              </a:prstGeom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9840" y="6444000"/>
                <a:ext cx="54000" cy="5220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110640" y="6397920"/>
                <a:ext cx="913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operty Direc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881360" y="6618600"/>
                <a:ext cx="25236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973160" y="6588360"/>
                <a:ext cx="68400" cy="684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2003400" y="6588360"/>
                <a:ext cx="1440" cy="302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003400" y="6618600"/>
                <a:ext cx="1440" cy="302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1973160" y="6618600"/>
                <a:ext cx="3024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003400" y="6618600"/>
                <a:ext cx="3024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63960" y="6542280"/>
                <a:ext cx="407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ari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854520" y="6618600"/>
                <a:ext cx="2523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976560" y="6610680"/>
                <a:ext cx="30240" cy="792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36760" y="6542280"/>
                <a:ext cx="1104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ersonal Accid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829480" y="6618600"/>
                <a:ext cx="250560" cy="1440"/>
              </a:xfrm>
              <a:prstGeom prst="line">
                <a:avLst/>
              </a:prstGeom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919840" y="6610680"/>
                <a:ext cx="61920" cy="792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110280" y="6542280"/>
                <a:ext cx="717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operty R/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7329600" y="1523880"/>
              <a:ext cx="976320" cy="311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Rating de Primas del Lloyd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6553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ource: A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609624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ector reaseguros 1988-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77800" y="1676520"/>
            <a:ext cx="8261280" cy="4496040"/>
            <a:chOff x="577800" y="1676520"/>
            <a:chExt cx="8261280" cy="4496040"/>
          </a:xfrm>
        </p:grpSpPr>
        <p:sp>
          <p:nvSpPr>
            <p:cNvPr id="521" name=""/>
            <p:cNvSpPr/>
            <p:nvPr/>
          </p:nvSpPr>
          <p:spPr>
            <a:xfrm>
              <a:off x="577800" y="1676520"/>
              <a:ext cx="8261280" cy="4267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3200" y="4022640"/>
              <a:ext cx="51876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73200" y="3614760"/>
              <a:ext cx="51876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0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73200" y="3184560"/>
              <a:ext cx="51876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1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73200" y="2765520"/>
              <a:ext cx="51876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1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73200" y="2349360"/>
              <a:ext cx="51876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2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3200" y="1928880"/>
              <a:ext cx="51876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2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18900000">
              <a:off x="106920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25520" y="1830240"/>
              <a:ext cx="1800" cy="235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63600" y="4184640"/>
              <a:ext cx="12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63600" y="3762360"/>
              <a:ext cx="12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63600" y="3340080"/>
              <a:ext cx="12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63600" y="2917800"/>
              <a:ext cx="12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63600" y="2496960"/>
              <a:ext cx="12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63600" y="2050920"/>
              <a:ext cx="12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25520" y="4186080"/>
              <a:ext cx="6850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1325520" y="4127400"/>
              <a:ext cx="1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1809720" y="4111560"/>
              <a:ext cx="144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2305080" y="4111560"/>
              <a:ext cx="144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2789280" y="4111560"/>
              <a:ext cx="144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3273480" y="4111560"/>
              <a:ext cx="144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3768840" y="4111560"/>
              <a:ext cx="144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253040" y="4111560"/>
              <a:ext cx="144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748040" y="4111560"/>
              <a:ext cx="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5232240" y="4111560"/>
              <a:ext cx="180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716440" y="4111560"/>
              <a:ext cx="180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211800" y="4111560"/>
              <a:ext cx="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696000" y="4111560"/>
              <a:ext cx="180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7178760" y="4111560"/>
              <a:ext cx="144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675560" y="4111560"/>
              <a:ext cx="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8158320" y="4111560"/>
              <a:ext cx="144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1568520" y="1830240"/>
              <a:ext cx="6332040" cy="2280960"/>
              <a:chOff x="1568520" y="1830240"/>
              <a:chExt cx="6332040" cy="228096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1568520" y="3553560"/>
                <a:ext cx="494640" cy="13608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2063160" y="3368160"/>
                <a:ext cx="484920" cy="18504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2548080" y="3206520"/>
                <a:ext cx="483480" cy="16128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3031920" y="3095280"/>
                <a:ext cx="494640" cy="11088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26560" y="3095280"/>
                <a:ext cx="484920" cy="24732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4011840" y="3206520"/>
                <a:ext cx="483120" cy="13608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94960" y="3206520"/>
                <a:ext cx="495000" cy="49680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989960" y="3703680"/>
                <a:ext cx="484920" cy="40752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5475240" y="4025520"/>
                <a:ext cx="483120" cy="8568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5958720" y="3851640"/>
                <a:ext cx="495000" cy="17316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6453720" y="3056040"/>
                <a:ext cx="483120" cy="79524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936840" y="3056400"/>
                <a:ext cx="483480" cy="180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7420680" y="1830240"/>
                <a:ext cx="479880" cy="122616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8158320" y="1830240"/>
              <a:ext cx="1440" cy="391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094600" y="5748480"/>
              <a:ext cx="1270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094600" y="5118120"/>
              <a:ext cx="127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094600" y="4497480"/>
              <a:ext cx="127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94600" y="3863880"/>
              <a:ext cx="127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94600" y="3243240"/>
              <a:ext cx="127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94600" y="2611440"/>
              <a:ext cx="127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094600" y="1989000"/>
              <a:ext cx="127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1568520" y="2598480"/>
              <a:ext cx="6346440" cy="2976480"/>
              <a:chOff x="1568520" y="2598480"/>
              <a:chExt cx="6346440" cy="2976480"/>
            </a:xfrm>
          </p:grpSpPr>
          <p:sp>
            <p:nvSpPr>
              <p:cNvPr id="575" name=""/>
              <p:cNvSpPr/>
              <p:nvPr/>
            </p:nvSpPr>
            <p:spPr>
              <a:xfrm>
                <a:off x="1568520" y="2797920"/>
                <a:ext cx="494280" cy="33372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62800" y="3131640"/>
                <a:ext cx="485280" cy="42300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548080" y="3555000"/>
                <a:ext cx="483840" cy="1188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31920" y="3567240"/>
                <a:ext cx="493920" cy="32292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3525840" y="3355200"/>
                <a:ext cx="485640" cy="53460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4011480" y="3219480"/>
                <a:ext cx="483480" cy="13608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4495320" y="2673360"/>
                <a:ext cx="494280" cy="54540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989600" y="2673720"/>
                <a:ext cx="485280" cy="5040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5474880" y="2598480"/>
                <a:ext cx="483840" cy="12564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958720" y="2598840"/>
                <a:ext cx="494280" cy="36000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53360" y="2958840"/>
                <a:ext cx="483840" cy="60840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937200" y="3567240"/>
                <a:ext cx="483480" cy="29700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420680" y="3864600"/>
                <a:ext cx="494280" cy="171036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 rot="18900000">
              <a:off x="156312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8900000">
              <a:off x="204732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8900000">
              <a:off x="253296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8900000">
              <a:off x="302508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8900000">
              <a:off x="351072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8900000">
              <a:off x="399672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8900000">
              <a:off x="449028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8900000">
              <a:off x="497448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8900000">
              <a:off x="546012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8900000">
              <a:off x="595224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8900000">
              <a:off x="643824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8900000">
              <a:off x="692244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900000">
              <a:off x="741600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16000" y="5626080"/>
              <a:ext cx="47304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-1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16000" y="4991040"/>
              <a:ext cx="36036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-6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316000" y="4373640"/>
              <a:ext cx="36036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-2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315280" y="3740040"/>
              <a:ext cx="2934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15280" y="3121200"/>
              <a:ext cx="2934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315280" y="2487600"/>
              <a:ext cx="40608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315280" y="1866960"/>
              <a:ext cx="40608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22840" y="4064040"/>
              <a:ext cx="1134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55840" y="5891040"/>
              <a:ext cx="65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1639800" y="5867280"/>
              <a:ext cx="6058440" cy="305280"/>
              <a:chOff x="1639800" y="5867280"/>
              <a:chExt cx="6058440" cy="305280"/>
            </a:xfrm>
          </p:grpSpPr>
          <p:sp>
            <p:nvSpPr>
              <p:cNvPr id="611" name=""/>
              <p:cNvSpPr/>
              <p:nvPr/>
            </p:nvSpPr>
            <p:spPr>
              <a:xfrm>
                <a:off x="2076480" y="5867280"/>
                <a:ext cx="2276280" cy="3052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Índice combinado (%)</a:t>
                </a: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960440" y="5883120"/>
                <a:ext cx="2737800" cy="274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Rendimiento de capital (%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519440" y="6019920"/>
                <a:ext cx="360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639800" y="6019920"/>
                <a:ext cx="36036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5" name=""/>
          <p:cNvSpPr/>
          <p:nvPr/>
        </p:nvSpPr>
        <p:spPr>
          <a:xfrm>
            <a:off x="76320" y="6553080"/>
            <a:ext cx="541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urce: S &amp; P Global Reinsurance Highlights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32080" y="6350040"/>
            <a:ext cx="360" cy="304920"/>
          </a:xfrm>
          <a:prstGeom prst="rect">
            <a:avLst/>
          </a:prstGeom>
          <a:solidFill>
            <a:srgbClr val="a0b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Indice combinado y rendimiento del capital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533520" y="1905120"/>
            <a:ext cx="6095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3747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uropa Occid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747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l mercado de capitales cayó alrede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747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de un 35% en el  año 200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1920" y="793800"/>
            <a:ext cx="80010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s severas pérdidas por las inversiones redujeron el capital social de compañías de seguros (no-vid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Severas pérdidas por inversion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296120" y="1752480"/>
            <a:ext cx="184788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$ mill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~  8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" y="59594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Las pérdidas por inversiones desde el año 2000 alcanzan casi US$ 200 mil 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96120" y="3962520"/>
            <a:ext cx="184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~  2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96120" y="5219640"/>
            <a:ext cx="184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~ 11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3520" y="3505320"/>
            <a:ext cx="6553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3747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E.UU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747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l mercado de capitales cayó en el o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747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de un 25% en el año 200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520" y="5105520"/>
            <a:ext cx="5867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3747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uropa Occidental + EE.U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rima Directa como % del P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990720" y="957240"/>
          <a:ext cx="7391160" cy="55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57240"/>
                    <a:ext cx="7391160" cy="55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0" y="6553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ource: AS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rima Directa Per Capita (en u$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6553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ource: AS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57200" y="1019160"/>
          <a:ext cx="838188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19160"/>
                    <a:ext cx="838188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>
            <a:hlinkClick r:id="rId3" action="ppaction://hlinksldjump"/>
          </p:cNvPr>
          <p:cNvSpPr/>
          <p:nvPr/>
        </p:nvSpPr>
        <p:spPr>
          <a:xfrm>
            <a:off x="8839080" y="6629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8:19:00Z</dcterms:created>
  <dc:creator>Victoria Bunader</dc:creator>
  <dc:description/>
  <dc:language>en-US</dc:language>
  <cp:lastModifiedBy>Usuario</cp:lastModifiedBy>
  <cp:lastPrinted>2002-11-11T02:36:33Z</cp:lastPrinted>
  <dcterms:modified xsi:type="dcterms:W3CDTF">2004-11-09T22:11:00Z</dcterms:modified>
  <cp:revision>945</cp:revision>
  <dc:subject/>
  <dc:title>Presentación de PowerPoint</dc:title>
</cp:coreProperties>
</file>